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27D-79AA-4228-A005-3B33AEB4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97C-4991-4A2F-9CFB-4834B757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F2C-F056-4256-A61F-D1641352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62A-03E4-4708-96F0-6F551C1B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93F-F996-4E56-A1C4-01827C74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7345-3E0E-4694-8ECB-337D12B5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21B-99A0-45BE-9FBC-0E1CE66A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118-BCC7-44C9-9902-09F12677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EAB-A27C-43F4-ADF7-1F6F60ED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A2D4-8B30-461E-9AEA-7A096DCD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4A7F-3F7D-434A-BC31-953CF6D2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73E-6085-4BAF-B6D3-7A75C3AA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4429-FCF3-47F6-ACE5-44A8E6406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76320" y="228600"/>
            <a:ext cx="9296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Me llamo _________   Clase 701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La fecha es el 2 de noviembre del 2015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2b00"/>
                </a:solidFill>
                <a:latin typeface="Arial"/>
              </a:rPr>
              <a:t>Proposito # 17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Como terminamos el repaso pa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iz: Repaso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DEL JUE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2b00"/>
                </a:solidFill>
                <a:latin typeface="Arial"/>
                <a:ea typeface="Arial"/>
              </a:rPr>
              <a:t>Actividad Inicial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fica</a:t>
            </a:r>
            <a:r>
              <a:rPr b="1" lang="en-US" sz="3200" spc="-1" strike="noStrike">
                <a:solidFill>
                  <a:srgbClr val="e42b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kitchen"/>
          <p:cNvPicPr/>
          <p:nvPr/>
        </p:nvPicPr>
        <p:blipFill>
          <a:blip r:embed="rId1"/>
          <a:stretch/>
        </p:blipFill>
        <p:spPr>
          <a:xfrm>
            <a:off x="3733920" y="3816360"/>
            <a:ext cx="3898800" cy="266076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 flipH="1" flipV="1">
            <a:off x="3809880" y="3657600"/>
            <a:ext cx="609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 flipV="1">
            <a:off x="7010280" y="48006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 flipV="1">
            <a:off x="5486400" y="358128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MCj04338330000[1]"/>
          <p:cNvPicPr/>
          <p:nvPr/>
        </p:nvPicPr>
        <p:blipFill>
          <a:blip r:embed="rId2"/>
          <a:stretch/>
        </p:blipFill>
        <p:spPr>
          <a:xfrm>
            <a:off x="380880" y="3429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MCj03968960000[1]"/>
          <p:cNvPicPr/>
          <p:nvPr/>
        </p:nvPicPr>
        <p:blipFill>
          <a:blip r:embed="rId3"/>
          <a:stretch/>
        </p:blipFill>
        <p:spPr>
          <a:xfrm>
            <a:off x="2055960" y="4619520"/>
            <a:ext cx="1830240" cy="943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2082960" y="336564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Nev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7543800" y="41911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Co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7527960" y="502920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Estu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5715000" y="320040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lavapl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-76320" y="4800600"/>
            <a:ext cx="22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Cesto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ba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2057400" y="541008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231480" y="4114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3"/>
          <p:cNvSpPr/>
          <p:nvPr/>
        </p:nvSpPr>
        <p:spPr>
          <a:xfrm>
            <a:off x="1847520" y="4338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3777840" y="3333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5244840" y="3346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6"/>
          <p:cNvSpPr/>
          <p:nvPr/>
        </p:nvSpPr>
        <p:spPr>
          <a:xfrm>
            <a:off x="8232480" y="46497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ining room"/>
          <p:cNvPicPr/>
          <p:nvPr/>
        </p:nvPicPr>
        <p:blipFill>
          <a:blip r:embed="rId1"/>
          <a:stretch/>
        </p:blipFill>
        <p:spPr>
          <a:xfrm>
            <a:off x="3048120" y="12193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61" name="Line 5"/>
          <p:cNvSpPr/>
          <p:nvPr/>
        </p:nvSpPr>
        <p:spPr>
          <a:xfrm flipV="1">
            <a:off x="6427800" y="1143000"/>
            <a:ext cx="20160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6934320" y="3429000"/>
            <a:ext cx="3808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2428920" y="1219320"/>
            <a:ext cx="1457280" cy="3124080"/>
          </a:xfrm>
          <a:prstGeom prst="rect">
            <a:avLst/>
          </a:prstGeom>
          <a:ln w="0">
            <a:noFill/>
          </a:ln>
        </p:spPr>
      </p:pic>
      <p:sp>
        <p:nvSpPr>
          <p:cNvPr id="64" name="Line 9"/>
          <p:cNvSpPr/>
          <p:nvPr/>
        </p:nvSpPr>
        <p:spPr>
          <a:xfrm flipH="1">
            <a:off x="1752120" y="251460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04920" y="236232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ch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5699160" y="68580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M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6232680" y="510552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 flipH="1">
            <a:off x="4419360" y="39625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3352680" y="50292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alfom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293480" y="27320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937200" y="681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4057200" y="4719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7"/>
          <p:cNvSpPr/>
          <p:nvPr/>
        </p:nvSpPr>
        <p:spPr>
          <a:xfrm>
            <a:off x="672444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bedroom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4023000"/>
          </a:xfrm>
          <a:prstGeom prst="rect">
            <a:avLst/>
          </a:prstGeom>
          <a:ln w="0">
            <a:noFill/>
          </a:ln>
        </p:spPr>
      </p:pic>
      <p:sp>
        <p:nvSpPr>
          <p:cNvPr id="75" name="Line 9"/>
          <p:cNvSpPr/>
          <p:nvPr/>
        </p:nvSpPr>
        <p:spPr>
          <a:xfrm flipH="1" flipV="1">
            <a:off x="1066680" y="3504960"/>
            <a:ext cx="1524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 flipH="1">
            <a:off x="5105160" y="3733920"/>
            <a:ext cx="26676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 flipV="1">
            <a:off x="6705720" y="342864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 flipV="1">
            <a:off x="7010280" y="213372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V="1">
            <a:off x="4608360" y="914400"/>
            <a:ext cx="171612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 flipH="1" flipV="1">
            <a:off x="3123720" y="837720"/>
            <a:ext cx="114300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12952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9" descr=""/>
          <p:cNvPicPr/>
          <p:nvPr/>
        </p:nvPicPr>
        <p:blipFill>
          <a:blip r:embed="rId2"/>
          <a:stretch/>
        </p:blipFill>
        <p:spPr>
          <a:xfrm>
            <a:off x="152280" y="5143680"/>
            <a:ext cx="1562400" cy="1562040"/>
          </a:xfrm>
          <a:prstGeom prst="rect">
            <a:avLst/>
          </a:prstGeom>
          <a:ln w="0">
            <a:noFill/>
          </a:ln>
        </p:spPr>
      </p:pic>
      <p:sp>
        <p:nvSpPr>
          <p:cNvPr id="83" name="Line 25"/>
          <p:cNvSpPr/>
          <p:nvPr/>
        </p:nvSpPr>
        <p:spPr>
          <a:xfrm>
            <a:off x="1523880" y="6019920"/>
            <a:ext cx="10670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7"/>
          <p:cNvSpPr/>
          <p:nvPr/>
        </p:nvSpPr>
        <p:spPr>
          <a:xfrm flipV="1">
            <a:off x="4572000" y="837720"/>
            <a:ext cx="152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4419720" y="563868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C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0" y="304812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c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ó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1"/>
          <p:cNvSpPr/>
          <p:nvPr/>
        </p:nvSpPr>
        <p:spPr>
          <a:xfrm>
            <a:off x="7574040" y="309420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Mesa de No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2"/>
          <p:cNvSpPr/>
          <p:nvPr/>
        </p:nvSpPr>
        <p:spPr>
          <a:xfrm>
            <a:off x="7391520" y="1558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l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á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5851440" y="5335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esc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4"/>
          <p:cNvSpPr/>
          <p:nvPr/>
        </p:nvSpPr>
        <p:spPr>
          <a:xfrm>
            <a:off x="533520" y="380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6"/>
          <p:cNvSpPr/>
          <p:nvPr/>
        </p:nvSpPr>
        <p:spPr>
          <a:xfrm>
            <a:off x="3733920" y="45720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9"/>
          <p:cNvSpPr/>
          <p:nvPr/>
        </p:nvSpPr>
        <p:spPr>
          <a:xfrm>
            <a:off x="2590920" y="609588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tel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é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1" descr=""/>
          <p:cNvPicPr/>
          <p:nvPr/>
        </p:nvPicPr>
        <p:blipFill>
          <a:blip r:embed="rId3"/>
          <a:stretch/>
        </p:blipFill>
        <p:spPr>
          <a:xfrm>
            <a:off x="5867280" y="4610160"/>
            <a:ext cx="1447920" cy="1790640"/>
          </a:xfrm>
          <a:prstGeom prst="rect">
            <a:avLst/>
          </a:prstGeom>
          <a:ln w="0">
            <a:noFill/>
          </a:ln>
        </p:spPr>
      </p:pic>
      <p:sp>
        <p:nvSpPr>
          <p:cNvPr id="94" name="Line 42"/>
          <p:cNvSpPr/>
          <p:nvPr/>
        </p:nvSpPr>
        <p:spPr>
          <a:xfrm>
            <a:off x="6934320" y="586728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3"/>
          <p:cNvSpPr/>
          <p:nvPr/>
        </p:nvSpPr>
        <p:spPr>
          <a:xfrm>
            <a:off x="7451640" y="601992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ar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0"/>
          <p:cNvSpPr/>
          <p:nvPr/>
        </p:nvSpPr>
        <p:spPr>
          <a:xfrm>
            <a:off x="4612680" y="5343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1"/>
          <p:cNvSpPr/>
          <p:nvPr/>
        </p:nvSpPr>
        <p:spPr>
          <a:xfrm>
            <a:off x="528840" y="3429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3"/>
          <p:cNvSpPr/>
          <p:nvPr/>
        </p:nvSpPr>
        <p:spPr>
          <a:xfrm>
            <a:off x="7166880" y="3013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4"/>
          <p:cNvSpPr/>
          <p:nvPr/>
        </p:nvSpPr>
        <p:spPr>
          <a:xfrm>
            <a:off x="7817760" y="19382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5"/>
          <p:cNvSpPr/>
          <p:nvPr/>
        </p:nvSpPr>
        <p:spPr>
          <a:xfrm>
            <a:off x="6428520" y="8618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6"/>
          <p:cNvSpPr/>
          <p:nvPr/>
        </p:nvSpPr>
        <p:spPr>
          <a:xfrm>
            <a:off x="4118760" y="7603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7"/>
          <p:cNvSpPr/>
          <p:nvPr/>
        </p:nvSpPr>
        <p:spPr>
          <a:xfrm>
            <a:off x="2687040" y="684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8"/>
          <p:cNvSpPr/>
          <p:nvPr/>
        </p:nvSpPr>
        <p:spPr>
          <a:xfrm>
            <a:off x="2213640" y="5786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9"/>
          <p:cNvSpPr/>
          <p:nvPr/>
        </p:nvSpPr>
        <p:spPr>
          <a:xfrm>
            <a:off x="7547760" y="5715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905120" y="108576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H="1">
            <a:off x="1523880" y="3352680"/>
            <a:ext cx="609840" cy="228600"/>
          </a:xfrm>
          <a:prstGeom prst="line">
            <a:avLst/>
          </a:prstGeom>
          <a:ln w="38160">
            <a:solidFill>
              <a:srgbClr val="fdf5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562720" y="914040"/>
            <a:ext cx="38088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6553080" y="4724280"/>
            <a:ext cx="60984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 flipH="1" flipV="1">
            <a:off x="1143000" y="1523880"/>
            <a:ext cx="1371600" cy="1067040"/>
          </a:xfrm>
          <a:prstGeom prst="line">
            <a:avLst/>
          </a:prstGeom>
          <a:ln w="25560">
            <a:solidFill>
              <a:srgbClr val="fdf5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 flipH="1">
            <a:off x="3200400" y="4038480"/>
            <a:ext cx="1447920" cy="1981440"/>
          </a:xfrm>
          <a:prstGeom prst="line">
            <a:avLst/>
          </a:prstGeom>
          <a:ln w="38160">
            <a:solidFill>
              <a:srgbClr val="fdf5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775480" y="53352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Sof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6156360" y="594360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But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-15840" y="373392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Tele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676520" y="6172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mesa de ce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-76320" y="106668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os cuad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H="1">
            <a:off x="1981080" y="2286000"/>
            <a:ext cx="152640" cy="304920"/>
          </a:xfrm>
          <a:prstGeom prst="line">
            <a:avLst/>
          </a:prstGeom>
          <a:ln w="25560">
            <a:solidFill>
              <a:srgbClr val="fdf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 flipH="1" flipV="1">
            <a:off x="2133720" y="2285640"/>
            <a:ext cx="761760" cy="228600"/>
          </a:xfrm>
          <a:prstGeom prst="line">
            <a:avLst/>
          </a:prstGeom>
          <a:ln w="25560">
            <a:solidFill>
              <a:srgbClr val="fdf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2"/>
          <p:cNvSpPr/>
          <p:nvPr/>
        </p:nvSpPr>
        <p:spPr>
          <a:xfrm flipH="1" flipV="1">
            <a:off x="2133360" y="2400480"/>
            <a:ext cx="152280" cy="342720"/>
          </a:xfrm>
          <a:prstGeom prst="line">
            <a:avLst/>
          </a:prstGeom>
          <a:ln w="25560">
            <a:solidFill>
              <a:srgbClr val="fdf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V="1">
            <a:off x="4724280" y="3200400"/>
            <a:ext cx="9144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2"/>
          <p:cNvSpPr/>
          <p:nvPr/>
        </p:nvSpPr>
        <p:spPr>
          <a:xfrm>
            <a:off x="5338080" y="533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6481080" y="5634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1002600" y="3348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5"/>
          <p:cNvSpPr/>
          <p:nvPr/>
        </p:nvSpPr>
        <p:spPr>
          <a:xfrm>
            <a:off x="2518560" y="5789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6"/>
          <p:cNvSpPr/>
          <p:nvPr/>
        </p:nvSpPr>
        <p:spPr>
          <a:xfrm>
            <a:off x="534240" y="13716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bathroom"/>
          <p:cNvPicPr/>
          <p:nvPr/>
        </p:nvPicPr>
        <p:blipFill>
          <a:blip r:embed="rId1"/>
          <a:stretch/>
        </p:blipFill>
        <p:spPr>
          <a:xfrm>
            <a:off x="1828800" y="1405080"/>
            <a:ext cx="5867280" cy="4005000"/>
          </a:xfrm>
          <a:prstGeom prst="rect">
            <a:avLst/>
          </a:prstGeom>
          <a:ln w="0">
            <a:noFill/>
          </a:ln>
        </p:spPr>
      </p:pic>
      <p:sp>
        <p:nvSpPr>
          <p:cNvPr id="126" name="Line 5"/>
          <p:cNvSpPr/>
          <p:nvPr/>
        </p:nvSpPr>
        <p:spPr>
          <a:xfrm flipH="1">
            <a:off x="152388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 flipH="1" flipV="1">
            <a:off x="1447920" y="13716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H="1" flipV="1">
            <a:off x="3962160" y="1066680"/>
            <a:ext cx="6094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6095880" y="3483000"/>
            <a:ext cx="76212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651040" y="6858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lava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685800" y="99072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du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-76320" y="37339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ba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ñ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7010280" y="55404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inod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-76320" y="41148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 flipV="1">
            <a:off x="5029200" y="1142640"/>
            <a:ext cx="746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3353760" y="990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893160" y="13003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1286640" y="3500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6099840" y="55166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5779440" y="838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324480" y="83808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esp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Content Placeholder 2"/>
          <p:cNvSpPr/>
          <p:nvPr/>
        </p:nvSpPr>
        <p:spPr>
          <a:xfrm>
            <a:off x="304920" y="76320"/>
            <a:ext cx="86868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Nombre: ________________     Prop. 1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</a:rPr>
              <a:t>II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a familia Simpson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ia, mira el arbol familiar Simpson y comple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abuelas de Bart son 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tia de Ling es 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padre de Marge es 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hermano de Homer es 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s tios de Lisa son 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hija de Selma es 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s sobrinos de Herb son 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abuelo de Lisa es 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prima de Maggie es 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hermanas de Bart son 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763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ff"/>
                </a:solidFill>
                <a:latin typeface="Comic Sans MS"/>
              </a:rPr>
              <a:t>La familia Simpson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4" name="Picture 3" descr="arbol genealogico, simpsons"/>
          <p:cNvPicPr/>
          <p:nvPr/>
        </p:nvPicPr>
        <p:blipFill>
          <a:blip r:embed="rId1"/>
          <a:stretch/>
        </p:blipFill>
        <p:spPr>
          <a:xfrm>
            <a:off x="685800" y="781200"/>
            <a:ext cx="7315200" cy="5916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028880" y="23130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88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2171880" y="23130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80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18148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73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32448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70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838080" y="43927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57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2455920" y="44751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55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543480" y="447516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46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5281560" y="44686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49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902280" y="43639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49  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838080" y="6477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12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2514600" y="6477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9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4114800" y="6477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2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7010280" y="64771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1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8" descr="http://the-simpsons.cz/files/2010/02/clancy.jpg"/>
          <p:cNvPicPr/>
          <p:nvPr/>
        </p:nvPicPr>
        <p:blipFill>
          <a:blip r:embed="rId2"/>
          <a:stretch/>
        </p:blipFill>
        <p:spPr>
          <a:xfrm>
            <a:off x="5227560" y="1219320"/>
            <a:ext cx="868320" cy="99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6:23:15Z</dcterms:created>
  <dc:creator>Helen</dc:creator>
  <dc:description/>
  <dc:language>en-US</dc:language>
  <cp:lastModifiedBy>Helen Zumaeta</cp:lastModifiedBy>
  <cp:lastPrinted>2014-10-15T22:28:50Z</cp:lastPrinted>
  <dcterms:modified xsi:type="dcterms:W3CDTF">2015-11-02T22:54:20Z</dcterms:modified>
  <cp:revision>19</cp:revision>
  <dc:subject/>
  <dc:title>Me llamo _________   Clase 10NN La fecha es el 27 de abril del 2009</dc:title>
</cp:coreProperties>
</file>